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23417-3A16-49CE-8D9F-B0A9D57A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10F45-0DE9-410A-9D11-6B108DADA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14939-5A18-4EBB-9EC5-A876F4A2F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7698C-319A-4102-A524-58FA0EAB2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D8F10-3D26-4813-A726-9DE66F351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2791F-F520-4606-B121-248719F21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D4081-4F8A-4E23-83C4-03B4C6B79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346D9-B0C8-491C-8A55-A6A1EE481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9A4FF-2EFB-404E-BBD3-F13136CE2B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EA4DC-8C6A-4EB6-A5FC-0585E6263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6CF22-5A34-43DE-B737-335A732DB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9CCE9-6781-4379-8698-C1A8B9E6D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116E3-5729-4EAB-A08D-D8F72B5D9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 Light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265E6-5BB1-4C78-B85D-623C674A4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35415-2C42-4CF4-88FF-11D1B86D76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1FCE9-ED8F-4A17-BDAA-4AC955290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71F65-8638-4535-8A48-B25B35980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Sve virusne infekcije kod dece mogu biti primarne tj one kod kojih se simptomi pojavljuju isključivo u ustima i sekundarne kod kojih se simptomi pojavljuju po celom telu. Za vreme virusnih infekcija reba izbegavati stomatološki rad, osim u bolnim stanj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B25B6-7175-4490-A83D-D23741519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66BE3-EDFD-4118-8FBC-D3ACC27249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10157-7764-46E2-84B5-7CE94F355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796F0-13DA-4821-BFA3-2D9E75199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3314A-A1E4-4EBE-A703-9254B4B1D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9780B-3978-4EDA-833F-62FA53998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Klasifikacija na osno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•</a:t>
            </a: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etiologiji obolj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•</a:t>
            </a: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lokalizaciji promena ili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•</a:t>
            </a:r>
            <a:r>
              <a:rPr b="1" lang="pl-PL" sz="1800" spc="-1" strike="noStrike">
                <a:solidFill>
                  <a:srgbClr val="f9a12a"/>
                </a:solidFill>
                <a:latin typeface="Trebuchet MS"/>
              </a:rPr>
              <a:t>kliničkom toku patoloških pro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A242D-EBB7-4FB2-8351-97044DDE6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40625-B7CC-4BF9-B08D-B932B119A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09F69-B151-4304-BBB7-A1223D80EC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7901A-B45A-4E55-8E9A-F9AC13F67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DC52E-C116-460A-853E-155C00FF9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D5E97-DE7C-4DE2-BFDC-00E38FB39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C0118-F5AE-41A8-BF03-10931BC404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32094-5966-44A5-8554-D624CF2DC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5AB9B-1599-45E0-9A27-5DB1995CC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360BC-51FB-4202-B7DB-9E1D27DA98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FC85A-9C68-4DE1-A86B-5625E602A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A5E2E-5277-4575-B2A1-E23A0CAE6B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A8988-7156-4C65-B4E5-D7FA234980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6962D-B644-4B3B-A165-E7524E2B6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29CCC-702B-4BC0-A344-0A1C7D68D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539-F396-4096-8DE2-1A3BBE1A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9C2-F8E0-4EDA-900E-8A75633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6DC-5A79-43E6-B1B0-696EA305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955-947E-43CB-92D7-D4B66064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3EA-1707-4C37-A3F0-C437210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4C4-3B6D-4AAC-91BB-8DC43A4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38A-ABEB-4F50-A095-7FC64FD9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2E8-DAF7-4E45-9228-E8500D8D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584-0110-4B08-AFEB-19ED009E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CE2-D091-46AC-8BBD-6DD759D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819-B479-4EE5-95F9-D048D9C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E93-F310-40FF-9BD7-BFDE2605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C8E7A-0A8C-4D14-9B37-2357AB1B2A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OBOLJENJA </a:t>
            </a:r>
            <a:r>
              <a:rPr b="1" lang="en-US" sz="4800" spc="-1" strike="noStrike">
                <a:solidFill>
                  <a:srgbClr val="f8f8f8"/>
                </a:solidFill>
                <a:latin typeface="Trebuchet MS"/>
              </a:rPr>
              <a:t>MEKIH</a:t>
            </a:r>
            <a:br>
              <a:rPr sz="4800"/>
            </a:br>
            <a:r>
              <a:rPr b="1" lang="en-US" sz="4800" spc="-1" strike="noStrike">
                <a:solidFill>
                  <a:srgbClr val="f8f8f8"/>
                </a:solidFill>
                <a:latin typeface="Trebuchet MS"/>
              </a:rPr>
              <a:t>TKIVA U DEC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49000" y="2061720"/>
            <a:ext cx="57150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uvoća usan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Jednostrano suzenje očiju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Glavobol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tok donje usne koji dugo perzistira - makroheilij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Recidivirajuća pareza facijalisa 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Lingua plicat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pšte stanje organizma je dobro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81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ELKERSSON-ROSENTHAL-OV SINDR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06200" y="2119320"/>
            <a:ext cx="51814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Uvećanje jedne ili obe usne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Otok očnih kapak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Uvećanje štitne žlez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ACHER-OV SINDR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30240" y="1814040"/>
            <a:ext cx="51055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mene na usnama i ust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437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Eritem i fisure na usnam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437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krajnici koji liče na jagod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437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difuzna hiperemija sluzokože usta i ždrel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4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AVASAKI SINDR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35160" y="1814040"/>
            <a:ext cx="108201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200" spc="-1" strike="noStrike">
                <a:solidFill>
                  <a:srgbClr val="f9a12a"/>
                </a:solidFill>
                <a:latin typeface="Trebuchet MS"/>
              </a:rPr>
              <a:t>Promena boj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312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200" spc="-1" strike="noStrike">
                <a:solidFill>
                  <a:srgbClr val="f9a12a"/>
                </a:solidFill>
                <a:latin typeface="Trebuchet MS"/>
              </a:rPr>
              <a:t>Promene površinske struktur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312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200" spc="-1" strike="noStrike">
                <a:solidFill>
                  <a:srgbClr val="f9a12a"/>
                </a:solidFill>
                <a:latin typeface="Trebuchet MS"/>
              </a:rPr>
              <a:t>Promene veličine usan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OMENE NA USNAM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53920" y="1757520"/>
            <a:ext cx="55627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Fiziološka prebojenost oralne sluzokože sreće se u tamnoputih osoba i naziva se melanogena pigmenta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atološka prebojenost se javlja pod uticajem lokalnih faktora ili u sklopu obolje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IGMENTACIJE ORALNE SLUZOKOŽ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34800" y="1833120"/>
            <a:ext cx="101343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Peutz-Jeghers-ov sindrom karakteriše melaninska prebojenost u obliku ugriza na bukalnoj sluzokoži i donjoj usn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od neurofibromatoze – von Recklinghausen-ova bolest melanociti prebojavaju usne koje imaju svetlosmeđu boju. Pored prebojenosti sluzokože usta, zapažaju se tumori kože, oralne sluzokože, živaca, kao i pojava nevus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igmentni nevus je promena mrke boje na gingivi, nepcu ili usnama, jasno ograničen, slična tumoru. Zbog mogućnosti maligne alteracije mora se izbegavati bilo kakva iritacij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aligni melanom je patološka pigmentna tvorevina veoma retka na oralnoj sluzokoži u dece. Najčešća lokalizacija je na nepcu i alveolarnom rubu donje vili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IGMENTACIJE ORALNE SLUZOKOŽ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24960" y="1738440"/>
            <a:ext cx="57150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Javlja se u periodu od 1-4 god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Nepoznate etiologij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Kliničkom slikom dominiraju promene na gornjoj površini ili bočnim stranama jezika u vidu deskvamacije epitela, ovalnog ili kružnog oblik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Promene migriraju (migrirajući glositis) i javljaju se periodično sa razmacima oko 4-5 nedelj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Prognoza dobra bez Th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LINGUA GEOGRAPHIC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24960" y="1814040"/>
            <a:ext cx="53341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Nepoznate etiologij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Osnovne promene su uvećane filiformne papile u centralnom delu zadnje trećine jezika u koje se deponuju pigmenti hromatogenih bakterij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Prognoza dobra bez Th (četkanje jezika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LINGUA VILLOSA NIGR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34800" y="1814040"/>
            <a:ext cx="51051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Jezik je izbrazdan na gornjoj površini uzdužnim i poprečnim brazdama i izgledom podseća na skrotum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Subjektivni simptomi - žarenje i pečenje kod konzumiranja začinjene hrane i toplih napitaka posledica je zadržavanja ostataka hrane koja fermentira u dubokim fisuram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LINGUA PLICATA / SCROTAL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34800" y="1890720"/>
            <a:ext cx="4800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Glossitis rhombica mediana (romboidni glositi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Posledica je nepravilnog srastanja lateralnih polovina jezik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Promena u srednjoj liniji jezika su romboidnog oblika bez papilarnog pokrivača. Površina jezika kao da je polirana i jasno ograničena od oko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RAZVOJNE ANOMAL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73040" y="2061720"/>
            <a:ext cx="5943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600" spc="-1" strike="noStrike">
                <a:solidFill>
                  <a:srgbClr val="f9a12a"/>
                </a:solidFill>
                <a:latin typeface="Trebuchet MS"/>
              </a:rPr>
              <a:t>Opšte priro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nasleđ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konstitucij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bolesti dečjeg dob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pol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uzrast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opšta oboljenj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FAKTOR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407360" y="2062080"/>
            <a:ext cx="59436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600" spc="-1" strike="noStrike">
                <a:solidFill>
                  <a:srgbClr val="f9a12a"/>
                </a:solidFill>
                <a:latin typeface="Trebuchet MS"/>
              </a:rPr>
              <a:t>Faktori lokalne priro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bakterijsk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gljivičn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virusne infekcij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Traum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neadekvatna oralna higijen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loše navike 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jatrogeni faktor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34800" y="1814040"/>
            <a:ext cx="101343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8f8f8"/>
                </a:solidFill>
                <a:latin typeface="Trebuchet MS"/>
              </a:rPr>
              <a:t>Macroglossia</a:t>
            </a: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 je razvojna anomalija ali može biti prava i stečena (Prava makroglosija sreće se kod mongoloidizma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800" spc="-1" strike="noStrike">
                <a:solidFill>
                  <a:srgbClr val="f8f8f8"/>
                </a:solidFill>
                <a:latin typeface="Trebuchet MS"/>
              </a:rPr>
              <a:t>Microglossia</a:t>
            </a: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 (mali jezik) retka razvojna anomalija bez funkcionalnih smetnj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ACRO / MICROGLOSSI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35160" y="1986120"/>
            <a:ext cx="4952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8f8f8"/>
                </a:solidFill>
                <a:latin typeface="Trebuchet MS"/>
              </a:rPr>
              <a:t>Aglossia</a:t>
            </a: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 (urođeni nedostatak jezika) izuzetno retka anomalija. Može se javiti u vidu potpune ili parcijalne aglosije. Disanje i ishrana mogući samo kroz no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8f8f8"/>
                </a:solidFill>
                <a:latin typeface="Trebuchet MS"/>
              </a:rPr>
              <a:t>Lingua bifida</a:t>
            </a: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, Glossoshisia, Shisoglossia, dupli jezik, zmijski jez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11160" y="62388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AGLOSSIA / LIGNUA BIFID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34800" y="1814040"/>
            <a:ext cx="47242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Lingua acreta, sapet (vezan) jezik nastaje usled poremećaja u razvoju podjezičnog frenulum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ANKILOGLOSSI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35160" y="1909800"/>
            <a:ext cx="10820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rebuchet MS"/>
              </a:rPr>
              <a:t>Glositis</a:t>
            </a: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8f8f8"/>
                </a:solidFill>
                <a:latin typeface="Trebuchet MS"/>
              </a:rPr>
              <a:t>Atrofije</a:t>
            </a: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8f8f8"/>
                </a:solidFill>
                <a:latin typeface="Trebuchet MS"/>
              </a:rPr>
              <a:t>Hipertrof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OMENE U POKRIVAČU JEZI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807160" y="2119320"/>
            <a:ext cx="53337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DN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HSV1 (Herpes simplex tip 1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HSV2 (Herpes simplex tip 2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HSV3 (Varičela Zoster viru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HSV4 (Epstein-Barr viru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RN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Picorna (Echovirus, Coxackie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Paramixo (Mumps, Morbili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VIRUSNE INFEK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: Rounded Corners 24"/>
          <p:cNvSpPr/>
          <p:nvPr/>
        </p:nvSpPr>
        <p:spPr>
          <a:xfrm>
            <a:off x="1743120" y="1717560"/>
            <a:ext cx="5664240" cy="23180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imarna infekcija </a:t>
            </a:r>
            <a:r>
              <a:rPr b="1" i="1" lang="sr-Latn-RS" sz="1400" spc="-1" strike="noStrike">
                <a:solidFill>
                  <a:srgbClr val="000000"/>
                </a:solidFill>
                <a:latin typeface="Trebuchet MS"/>
              </a:rPr>
              <a:t>herpes simplex virus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boljevaju deca od 1 do 4 god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Traje do 15 d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Inkubacija 4 do 7 d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odromalni simptomi traju do 2 dana (malaksalost, muka, glavobolja, otežano gutanje, visoka temperatura do 40°C koja nakon izbijanja oralnih lezija pada na 38°C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: Rounded Corners 30"/>
          <p:cNvSpPr/>
          <p:nvPr/>
        </p:nvSpPr>
        <p:spPr>
          <a:xfrm>
            <a:off x="1768320" y="4232160"/>
            <a:ext cx="5664240" cy="2154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Hiperemija i edem sluzni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Gingiva eritematozna, bolna i krvari na dodi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Vezikule koje pucaju koje ostavljaju bolne ulceraci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ove vezikule nastaju kontinuirano 3 do 5 d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bložen jezik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Regionalni limfadenit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352116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GINGIVOSTOMATITIS HERPET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: Rounded Corners 5"/>
          <p:cNvSpPr/>
          <p:nvPr/>
        </p:nvSpPr>
        <p:spPr>
          <a:xfrm>
            <a:off x="1779480" y="1585800"/>
            <a:ext cx="3875040" cy="5029200"/>
          </a:xfrm>
          <a:custGeom>
            <a:avLst/>
            <a:gdLst>
              <a:gd name="textAreaLeft" fmla="*/ 189000 w 3875040"/>
              <a:gd name="textAreaRight" fmla="*/ 3686040 w 3875040"/>
              <a:gd name="textAreaTop" fmla="*/ 189000 h 5029200"/>
              <a:gd name="textAreaBottom" fmla="*/ 4840200 h 5029200"/>
            </a:gdLst>
            <a:ahLst/>
            <a:rect l="textAreaLeft" t="textAreaTop" r="textAreaRight" b="textAreaBottom"/>
            <a:pathLst>
              <a:path w="21600" h="28033">
                <a:moveTo>
                  <a:pt x="3600" y="0"/>
                </a:moveTo>
                <a:arcTo wR="3600" hR="3600" stAng="16200000" swAng="-5400000"/>
                <a:lnTo>
                  <a:pt x="0" y="24433"/>
                </a:lnTo>
                <a:arcTo wR="3600" hR="3600" stAng="10800000" swAng="-5400000"/>
                <a:lnTo>
                  <a:pt x="18000" y="28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imptomatska terap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71480" indent="-29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Lokalna: 0.12% Hlorheksidin; 0.15% Tantum Verde; Hipermangan; Oralni antiseptici zbog gutanja; Kod jakih bolova 2% Lidokain pre obroka; Sredstva za epitelizaciju (AD kapi, Pantenol, Vitamin A); U slučaju gljivične infekcije Nistati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71480" indent="-29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pšta: Mirovanje; meka i kašasta hrana, multivitaminski preparati; rehidratacija; za regulaciju temperature Paracetamol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71480" indent="-2966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Kauzalna terapija kod imunokompromitovanih Acyclovir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080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GINGIVOSTOMATITIS HERPETICA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comb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: Rounded Corners 24"/>
          <p:cNvSpPr/>
          <p:nvPr/>
        </p:nvSpPr>
        <p:spPr>
          <a:xfrm>
            <a:off x="1768320" y="1738440"/>
            <a:ext cx="5639040" cy="2286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ekundarna infekcija </a:t>
            </a:r>
            <a:r>
              <a:rPr b="1" i="1" lang="sr-Latn-RS" sz="1400" spc="-1" strike="noStrike">
                <a:solidFill>
                  <a:srgbClr val="000000"/>
                </a:solidFill>
                <a:latin typeface="Trebuchet MS"/>
              </a:rPr>
              <a:t>herpes simplex virus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Već prisutni virus se aktivira i duž senzornog živca dolazi do kože u blizini usta </a:t>
            </a:r>
            <a:r>
              <a:rPr b="1" i="1" lang="sr-Latn-RS" sz="1400" spc="-1" strike="noStrike">
                <a:solidFill>
                  <a:srgbClr val="000000"/>
                </a:solidFill>
                <a:latin typeface="Trebuchet MS"/>
              </a:rPr>
              <a:t>(herpes labialis), </a:t>
            </a: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osa</a:t>
            </a:r>
            <a:r>
              <a:rPr b="1" i="1" lang="sr-Latn-RS" sz="1400" spc="-1" strike="noStrike">
                <a:solidFill>
                  <a:srgbClr val="000000"/>
                </a:solidFill>
                <a:latin typeface="Trebuchet MS"/>
              </a:rPr>
              <a:t> (herpes nasalis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Endogeni faktori: Febrilna stanja; Sistemske bolesti; Imunosupres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Egzogeni faktori: Sunčanje; Napor; Hladnoća; Emocionalni str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: Rounded Corners 30"/>
          <p:cNvSpPr/>
          <p:nvPr/>
        </p:nvSpPr>
        <p:spPr>
          <a:xfrm>
            <a:off x="1768320" y="4253040"/>
            <a:ext cx="5639040" cy="2133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Intraolarne promene su retke (gingiva i nepc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tadijumi: Prodromalni; Eritem kože; Stadijum papule; Stadijum vezikule; Stadijum ulceracije; Stvaranje kruste; Otpadanje kruste; Stadijum rezidualnog otok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352116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HERPES SIMPLEX RECIDIVA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: Rounded Corners 6"/>
          <p:cNvSpPr/>
          <p:nvPr/>
        </p:nvSpPr>
        <p:spPr>
          <a:xfrm>
            <a:off x="1768320" y="1585800"/>
            <a:ext cx="3886200" cy="502920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5029200"/>
              <a:gd name="textAreaBottom" fmla="*/ 4839480 h 5029200"/>
            </a:gdLst>
            <a:ahLst/>
            <a:rect l="textAreaLeft" t="textAreaTop" r="textAreaRight" b="textAreaBottom"/>
            <a:pathLst>
              <a:path w="21600" h="27952">
                <a:moveTo>
                  <a:pt x="3600" y="0"/>
                </a:moveTo>
                <a:arcTo wR="3600" hR="3600" stAng="16200000" swAng="-5400000"/>
                <a:lnTo>
                  <a:pt x="0" y="24352"/>
                </a:lnTo>
                <a:arcTo wR="3600" hR="3600" stAng="10800000" swAng="-5400000"/>
                <a:lnTo>
                  <a:pt x="18000" y="27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jbolje je delovati u prodromalnom stadijum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Za prevenciju sekundarne infekcije lokalne antiseptik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Acyclovir krema 5% / 5 puta dnevn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Cinkova pasta i Borvazelin (u fazi vezikule i krust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antenol i AD kapi za epitelizacij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Kod imunokompromitovanih primena Acyclovir tableta je indikov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Za prevenciju upotreba stikova za usne sa zaštitnim faktor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352116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HERPES SIMPLEX RECIDIVA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: Rounded Corners 3"/>
          <p:cNvSpPr/>
          <p:nvPr/>
        </p:nvSpPr>
        <p:spPr>
          <a:xfrm>
            <a:off x="1692360" y="2424240"/>
            <a:ext cx="5638680" cy="1295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Veoma često kontagiozno oboljenje u dece iz grupe osipnih grozn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boljevaju deca do 10 god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Rectangle: Rounded Corners 4"/>
          <p:cNvSpPr/>
          <p:nvPr/>
        </p:nvSpPr>
        <p:spPr>
          <a:xfrm>
            <a:off x="1692360" y="3948120"/>
            <a:ext cx="5638680" cy="19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Bolest počinje glavoboljom, slabošću i subfebrilnom temperaturom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U kataralnom stadijumu se javlja marginalni gingivitis i enantem mekog nepca, ždrela i sluzni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skanjem nastaju veoma bolne erozije sa žućkastim dn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720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VARICELLA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comb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807160" y="1738440"/>
            <a:ext cx="64008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vrede oralne sluzokož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boljenja usan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Jezik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Gingiv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arodonciju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boljenja oralne sluzokože izazvana bakterijama, gljivicama i virusi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pecifičnim alergijskim reakcija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utritivnim i endokrinim poremećaji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80240" indent="-48024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pštim oboljenji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1588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LASIFIK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: Rounded Corners 6"/>
          <p:cNvSpPr/>
          <p:nvPr/>
        </p:nvSpPr>
        <p:spPr>
          <a:xfrm>
            <a:off x="1692360" y="1662120"/>
            <a:ext cx="4038480" cy="22096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Retko oboljenje koje se javlja kod školske dece i adolescenata i to kod delimično imunokompromitovanih pacijenat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matra se da je virus latentan u ganglionu senzitivnog nerva do momenta egzacerbacije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97520" y="366840"/>
            <a:ext cx="856008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VARICELLA-ZOSTER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8" name="Rectangle: Rounded Corners 13"/>
          <p:cNvSpPr/>
          <p:nvPr/>
        </p:nvSpPr>
        <p:spPr>
          <a:xfrm>
            <a:off x="1692360" y="4100400"/>
            <a:ext cx="4038480" cy="2362320"/>
          </a:xfrm>
          <a:prstGeom prst="roundRect">
            <a:avLst>
              <a:gd name="adj" fmla="val 16667"/>
            </a:avLst>
          </a:prstGeom>
          <a:solidFill>
            <a:srgbClr val="f9a12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e erupcije javlja se groznica i bol duž periferije zahvaćenog nerva koji traje 2-4 dan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o koži se javlja eritem a potom vezikule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ralne promene na tvrdom nepcu i jeziku i traju kratk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4488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EPSTEIN-BAR VIRUS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0" name="Rectangle: Rounded Corners 6"/>
          <p:cNvSpPr/>
          <p:nvPr/>
        </p:nvSpPr>
        <p:spPr>
          <a:xfrm>
            <a:off x="1616040" y="2043000"/>
            <a:ext cx="5638680" cy="1905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Bolest poljup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Epstein-Bar viru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Traje 5-10 d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Ali se simptomi zadržavaju najduže na limfnim čvorovima, jetri i slezin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: Rounded Corners 7"/>
          <p:cNvSpPr/>
          <p:nvPr/>
        </p:nvSpPr>
        <p:spPr>
          <a:xfrm>
            <a:off x="1616040" y="4253040"/>
            <a:ext cx="5638680" cy="1904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Trijas simptom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542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Visoka temperatur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542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Faringit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542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Generalizovana adenopat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Karakteristična petehijalna krvaren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7000" indent="-297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Bolne plitke ulceraci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720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COXACKIE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3" name="Rectangle: Rounded Corners 5"/>
          <p:cNvSpPr/>
          <p:nvPr/>
        </p:nvSpPr>
        <p:spPr>
          <a:xfrm>
            <a:off x="1616040" y="1967040"/>
            <a:ext cx="5638680" cy="1752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HERPANG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Coxaykie tip 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Crvenilo zadnjeg i gornjeg dela ust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itne petehije na mekom nepc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Do 30 vezikula 1-2mm koje pucaj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: Rounded Corners 6"/>
          <p:cNvSpPr/>
          <p:nvPr/>
        </p:nvSpPr>
        <p:spPr>
          <a:xfrm>
            <a:off x="1616040" y="4329000"/>
            <a:ext cx="5638680" cy="1981440"/>
          </a:xfrm>
          <a:prstGeom prst="roundRect">
            <a:avLst>
              <a:gd name="adj" fmla="val 16667"/>
            </a:avLst>
          </a:prstGeom>
          <a:solidFill>
            <a:srgbClr val="f9a12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STOMATITIS PSEUDOAPHTOS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Javljaju se vezikule  na jeziku i obraz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skaju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Ektraoralno enantem na koži dlanova i stopala na kojima se javljaju vezik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olazi spontano za 7 d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720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PARAMYXO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Rectangle: Rounded Corners 5"/>
          <p:cNvSpPr/>
          <p:nvPr/>
        </p:nvSpPr>
        <p:spPr>
          <a:xfrm>
            <a:off x="1768320" y="1738440"/>
            <a:ext cx="5410440" cy="18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PAROTITIS EPIDEMICA (ZAUŠK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Otok jedne a retko obe parotidne žlezd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Bistri sekret pritiskom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Moće dovesti do upale moćdanih ovojnica, testisa i jajnik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oremećaj sluha, sterilitet, dijabe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: Rounded Corners 6"/>
          <p:cNvSpPr/>
          <p:nvPr/>
        </p:nvSpPr>
        <p:spPr>
          <a:xfrm>
            <a:off x="1768320" y="3795840"/>
            <a:ext cx="5410440" cy="1371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MORBI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 mekom nepc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 kraju kataralnog stadijuma na obrazu u visini molara Koplikove mrlje (plavkasto-bele boje 1-2mm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: Rounded Corners 11"/>
          <p:cNvSpPr/>
          <p:nvPr/>
        </p:nvSpPr>
        <p:spPr>
          <a:xfrm>
            <a:off x="1768320" y="5472000"/>
            <a:ext cx="5410440" cy="914400"/>
          </a:xfrm>
          <a:prstGeom prst="roundRect">
            <a:avLst>
              <a:gd name="adj" fmla="val 20556"/>
            </a:avLst>
          </a:prstGeom>
          <a:solidFill>
            <a:srgbClr val="2e98b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RUBEO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U trudnoći u periodu embriogeneze ploda može prouzrokovati kongenitalne anomali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0188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BAKTERIJSKE INFEKCIJE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Rectangle: Rounded Corners 5"/>
          <p:cNvSpPr/>
          <p:nvPr/>
        </p:nvSpPr>
        <p:spPr>
          <a:xfrm>
            <a:off x="1539720" y="1738440"/>
            <a:ext cx="5486400" cy="2133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ŠARLAH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Beta hemolitički streptokok 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gla i visoka temperatura, bol u guši i povraćan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Difuzna šarlahna ospa na licu šakama i tabanim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Filatovljev znak (oko usta bledi krug kož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tadijum perutan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Rectangle: Rounded Corners 6"/>
          <p:cNvSpPr/>
          <p:nvPr/>
        </p:nvSpPr>
        <p:spPr>
          <a:xfrm>
            <a:off x="1539720" y="4329000"/>
            <a:ext cx="5486400" cy="1981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 u="sng">
                <a:solidFill>
                  <a:srgbClr val="000000"/>
                </a:solidFill>
                <a:uFillTx/>
                <a:latin typeface="Trebuchet MS"/>
              </a:rPr>
              <a:t>IMPETIGO CONTAGIOS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Veikule oivičenje crvenim hal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Češanjem pucaj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 mestima mehaničkih nadraćaja i vlaženja, perioralni region komisure i rumeni deo usa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0188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BAKTERIJSKE INFEKCIJE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39960" y="1909800"/>
            <a:ext cx="108205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Akutni folikul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Osteomijelit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Stomatitis ulceronecrotica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Stomatitis gangreno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Pertu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Difter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Tuberkul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Aktinomik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400" spc="-1" strike="noStrike">
                <a:solidFill>
                  <a:srgbClr val="f9a12a"/>
                </a:solidFill>
                <a:latin typeface="Trebuchet MS"/>
              </a:rPr>
              <a:t>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73680" y="366840"/>
            <a:ext cx="8559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MONOLIJAZA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5" name="Rectangle: Rounded Corners 5"/>
          <p:cNvSpPr/>
          <p:nvPr/>
        </p:nvSpPr>
        <p:spPr>
          <a:xfrm>
            <a:off x="1768320" y="1890720"/>
            <a:ext cx="5257800" cy="2131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ajčešće mikotično oboljenje u ustim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Izaziva ga Candida albican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redisponirajući faktori: loša oralna higijena, kserostomija, anemija, HIV, dijabetes, AB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: Rounded Corners 6"/>
          <p:cNvSpPr/>
          <p:nvPr/>
        </p:nvSpPr>
        <p:spPr>
          <a:xfrm>
            <a:off x="1768320" y="4329000"/>
            <a:ext cx="5257800" cy="1981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Javljaju se naslage na jeziku, deca se žale na neugodan ukus, peckanje i bo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Hiposalivacij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Terapija je lokalna i sistemsk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83720" y="366840"/>
            <a:ext cx="856008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Trebuchet MS"/>
              </a:rPr>
              <a:t>RAS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8" name="Rectangle: Rounded Corners 5"/>
          <p:cNvSpPr/>
          <p:nvPr/>
        </p:nvSpPr>
        <p:spPr>
          <a:xfrm>
            <a:off x="1768320" y="1890720"/>
            <a:ext cx="5257800" cy="2131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Afte su relativno često oboljen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Nepoznate etiologi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Smatra se da je izmenjen lokalni imuni odgovor predisponirajuči fak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Povezuje se sa nasleđe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Manifestuje se kao MINOR i MAJ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Rectangle: Rounded Corners 6"/>
          <p:cNvSpPr/>
          <p:nvPr/>
        </p:nvSpPr>
        <p:spPr>
          <a:xfrm>
            <a:off x="1768320" y="4329000"/>
            <a:ext cx="5257800" cy="914400"/>
          </a:xfrm>
          <a:prstGeom prst="roundRect">
            <a:avLst>
              <a:gd name="adj" fmla="val 31944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Trebuchet MS"/>
              </a:rPr>
              <a:t>Terapija je ublažiti simptome i sprečiti nastanak superinfekcije kao i ubrzanju epitelizacij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35760" y="2271240"/>
            <a:ext cx="64008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Hematološka ispitivanj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Biohemijska ispitiv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Imunološka ispitiv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DG / DDG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3560" y="1814040"/>
            <a:ext cx="57913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Mehaničke povre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Termičke povrede su veoma retke i nastaju uzimanjem vruće hrane ili neobazrivom radu stomatolog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200" spc="-1" strike="noStrike">
                <a:solidFill>
                  <a:srgbClr val="f9a12a"/>
                </a:solidFill>
                <a:latin typeface="Trebuchet MS"/>
              </a:rPr>
              <a:t>Hemijska oštećenja – najčešće se javljaju kod dece 1-3 godina koje slučajno unesu  neko jako hemijsko sredstvo iz domaćinstv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OVREDE SLUZOKOŽE US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49000" y="1814040"/>
            <a:ext cx="51814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Dve kliničke form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000" spc="-1" strike="noStrike">
                <a:solidFill>
                  <a:srgbClr val="f8f8f8"/>
                </a:solidFill>
                <a:latin typeface="Trebuchet MS"/>
              </a:rPr>
              <a:t>Suva (poremećaj keratinizacije i pojava deskvamacije i eksfolijacij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000" spc="-1" strike="noStrike">
                <a:solidFill>
                  <a:srgbClr val="f8f8f8"/>
                </a:solidFill>
                <a:latin typeface="Trebuchet MS"/>
              </a:rPr>
              <a:t>Vlažna (komplikacija suve forme, ragade ili duboke linearne pukotine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CHEILITIS EXFOLIATIV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35160" y="1814040"/>
            <a:ext cx="48765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4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300" spc="-1" strike="noStrike">
                <a:solidFill>
                  <a:srgbClr val="f9a12a"/>
                </a:solidFill>
                <a:latin typeface="Trebuchet MS"/>
              </a:rPr>
              <a:t>Započinje eritemom na uglovima usana koji se širi po rumenom delu. Praćeno je peckanjem i sušenjem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CHEILITIS ANGULAR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06200" y="1967040"/>
            <a:ext cx="4343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Javlja se u tri oblika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Simplex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Purulent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100" spc="-1" strike="noStrike">
                <a:solidFill>
                  <a:srgbClr val="f8f8f8"/>
                </a:solidFill>
                <a:latin typeface="Trebuchet MS"/>
              </a:rPr>
              <a:t>Apostematos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CHEILITIS GLANDULAR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35160" y="2347920"/>
            <a:ext cx="54864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Kozmetički preparat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Hran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Sredstva za higijenu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Stomatološki materijal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pl-PL" sz="2600" spc="-1" strike="noStrike">
                <a:solidFill>
                  <a:srgbClr val="f9a12a"/>
                </a:solidFill>
                <a:latin typeface="Trebuchet MS"/>
              </a:rPr>
              <a:t>Razni predmeti (duvački instrumenti, olovke i dr.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CHEILITIS ALERGIC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52:23Z</dcterms:modified>
  <cp:revision>947</cp:revision>
  <dc:subject/>
  <dc:title>RTG U DEČJOJ STOMATOLOGIJI</dc:title>
</cp:coreProperties>
</file>